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954-5130-411E-9749-202D2A03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6B8-D024-4198-960E-8033553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A2D-920E-4F63-94D4-E434CE40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D74-AB88-4387-97F6-E79507C3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229-97DB-4548-AB56-F9ECCFD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369-5CAF-45E2-9AC8-74DBD940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0D9-4873-455F-B3B0-11C13A5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C2A-AFB3-4B56-85D2-7C03AFF6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FEB-E9AB-4974-AA51-1EBF732B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A84-E0E8-41F6-8A14-6ADD8418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CBB-B7BA-4B7C-B5F0-C1534B9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7CF-CB7A-4DB8-98C9-E2E2D6E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ECA-EFEA-482D-955D-AA42F5B990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Bivariate Data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2E Scatterplo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is very important to fully understand this exercise because scatterplots feature heavily in Chapters 3 and 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catterplots 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give a visual display of the relationship between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2 numerical variable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- One variable i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independen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nd one i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dependent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 The independent variable is graphed on th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horizontal axi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When describing the relationship between two variables displayed on a scatterplot, we need to comment on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direction- whether positive (sloping up to the right) or negative (sloping up to the left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form – whether it linear or non-linear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The strength – whether the correlation is strong, moderate or weak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mbr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mbria"/>
              </a:rPr>
              <a:t>Possible outlie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Correlation? What’s that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correlation is the relationship between two things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Picture 3" descr="Correlation.jpg"/>
          <p:cNvPicPr/>
          <p:nvPr/>
        </p:nvPicPr>
        <p:blipFill>
          <a:blip r:embed="rId1"/>
          <a:stretch/>
        </p:blipFill>
        <p:spPr>
          <a:xfrm>
            <a:off x="3071880" y="2143080"/>
            <a:ext cx="400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Scatterplot gallery.jpg"/>
          <p:cNvPicPr/>
          <p:nvPr/>
        </p:nvPicPr>
        <p:blipFill>
          <a:blip r:embed="rId1"/>
          <a:stretch/>
        </p:blipFill>
        <p:spPr>
          <a:xfrm>
            <a:off x="1357200" y="357120"/>
            <a:ext cx="621504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Scatterplots on the CAS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Open Lists &amp; Spreadsheet and enter the data in two columns. Add titles to each of the column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Open Data &amp; Statistics and enter the independent variable on the x-axis and the dependent variable on the y-axi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2E, Q.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For you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 2E, Q. 1, 2, 5, 6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5:39:16Z</dcterms:created>
  <dc:creator>08843474</dc:creator>
  <dc:description/>
  <dc:language>en-US</dc:language>
  <cp:lastModifiedBy>08843474</cp:lastModifiedBy>
  <dcterms:modified xsi:type="dcterms:W3CDTF">2011-02-12T06:15:30Z</dcterms:modified>
  <cp:revision>5</cp:revision>
  <dc:subject/>
  <dc:title>Bivariate Data</dc:title>
</cp:coreProperties>
</file>